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B922-B617-4BE0-BF38-61CD5C93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DAA4-2234-48E6-8FCB-018C22F7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1B59-2FD6-4F46-973F-F1501A0A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2689-3613-48CB-A6DF-8560D971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6A52-7522-4625-A0F7-88AE16CB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D244-F10E-4A03-9F4A-0997124D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8FBA-0742-428E-B07E-16B5D638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E20D-88AB-4553-8258-A41CA5BB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0C91-9A77-495E-B357-22432D40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157C-02EE-4AE2-BAEF-A3C2844B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5AD1-64D7-4491-AE8A-EF80FA6B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A1B5-0C68-4139-A501-22FA73BD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F2B1-7F25-47D7-9A84-AF6F9ECE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EE72-4C1A-418B-AF87-6C3FDAE8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AC89-CE6E-4EEF-9CA1-F062DFA6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7D02-3586-48E9-84F5-BCD23BE0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92E2-1D74-43C5-9675-9AEE790D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6DE2-C0CC-4CB6-8BFB-47507666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D4BD-CC4E-44E9-9717-C8AA7AEF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CF86-2C9D-43C8-B240-EB72DE1A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B84D-8AD3-4FFA-83B0-7B544240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5DA1-249A-48EE-A57D-B15C2DB6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5307-70FB-44F4-A91F-D32F3FA2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7127-3907-4CF6-BFA6-DAACBD54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9933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73A5-12FD-4A0A-9698-8292DB7EBECA}" type="slidenum">
              <a:rPr b="1" lang="en-US" sz="2600" spc="-1" strike="noStrike">
                <a:solidFill>
                  <a:srgbClr val="9933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33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9933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8491-E05E-420E-84B5-252D2B2311A8}" type="slidenum">
              <a:rPr b="1" lang="en-US" sz="2600" spc="-1" strike="noStrike">
                <a:solidFill>
                  <a:srgbClr val="9933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dwardian Script ITC"/>
              </a:rPr>
              <a:t>Mi Mans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dwardian Script ITC"/>
              </a:rPr>
              <a:t>Por  Jasmin Herr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Edwardian Script ITC"/>
              </a:rPr>
              <a:t>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Edwardian Script ITC"/>
              </a:rPr>
              <a:t>E l Garaj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Edwardian Script ITC"/>
              </a:rPr>
              <a:t>  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Edwardian Script ITC"/>
              </a:rPr>
              <a:t>El Pat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Edwardian Script ITC"/>
              </a:rPr>
              <a:t>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Edwardian Script ITC"/>
              </a:rPr>
              <a:t>El Jardi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pple Chancery"/>
              </a:rPr>
              <a:t>        </a:t>
            </a:r>
            <a:r>
              <a:rPr b="0" lang="en-US" sz="4400" spc="-1" strike="noStrike">
                <a:solidFill>
                  <a:srgbClr val="ffffff"/>
                </a:solidFill>
                <a:latin typeface="Edwardian Script ITC"/>
              </a:rPr>
              <a:t>La Mansion es muy bonit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Edwardian Script ITC"/>
              </a:rPr>
              <a:t>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Edwardian Script ITC"/>
              </a:rPr>
              <a:t>Mi Cuarto </a:t>
            </a:r>
            <a:r>
              <a:rPr b="1" i="1" lang="en-US" sz="3600" spc="-1" strike="noStrike">
                <a:solidFill>
                  <a:srgbClr val="ffffff"/>
                </a:solidFill>
                <a:latin typeface="Edwardian Script ITC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Edwardian Script ITC"/>
              </a:rPr>
              <a:t>ncredible!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2280" y="5791320"/>
          <a:ext cx="212760" cy="3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791320"/>
                    <a:ext cx="21276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219320" y="2057400"/>
            <a:ext cx="6858000" cy="40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Edwardian Script ITC"/>
              </a:rPr>
              <a:t>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Edwardian Script ITC"/>
              </a:rPr>
              <a:t>Mi Cocina Magnific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548640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Edwardian Script ITC"/>
              </a:rPr>
              <a:t>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Edwardian Script ITC"/>
              </a:rPr>
              <a:t>La Impesionante Sal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28800" y="2529000"/>
            <a:ext cx="53341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dwardian Script ITC"/>
              </a:rPr>
              <a:t>  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Edwardian Script ITC"/>
              </a:rPr>
              <a:t>Cuarto de invita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12840" y="2509920"/>
            <a:ext cx="5143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81840" y="8341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dwardian Script ITC"/>
              </a:rPr>
              <a:t>     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Edwardian Script ITC"/>
              </a:rPr>
              <a:t>El Comedo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2485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Edwardian Script ITC"/>
              </a:rPr>
              <a:t>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Edwardian Script ITC"/>
              </a:rPr>
              <a:t>El Bañ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7760" y="449568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Edwardian Script ITC"/>
              </a:rPr>
              <a:t>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Edwardian Script ITC"/>
              </a:rPr>
              <a:t>La Incredible  piscin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5:25:15Z</dcterms:created>
  <dc:creator>herrerajasm</dc:creator>
  <dc:description/>
  <dc:language>en-US</dc:language>
  <cp:lastModifiedBy>herrerajasm</cp:lastModifiedBy>
  <dcterms:modified xsi:type="dcterms:W3CDTF">2012-03-23T18:08:42Z</dcterms:modified>
  <cp:revision>9</cp:revision>
  <dc:subject/>
  <dc:title>Mi Casa</dc:title>
</cp:coreProperties>
</file>